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9CD2-75CC-4A38-849C-B6B79947FBE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6C28-66B9-4A2E-ADDA-1CE3B2B9376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7E03-7BFF-463A-9ECC-73C3DB42648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84F1-3DB8-407D-943C-B9B8D0CD894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019E-D10F-4B62-BA5A-7CCFE316D35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A4F7-1608-4C67-944B-D8A6016C13C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D59A-D22B-4DB9-B23A-C910786D352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A817-344B-407B-A005-C55CF88B773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4BA6-5DF5-4333-B955-BAEB50749E9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5E5D-7ADF-4FAC-88B8-75CB844496E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A1C8-52F2-4582-887E-3544E44D75E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E95C-0DA6-4BEA-A598-1B4D091D3E6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6344-6F9F-4824-ACAC-1230E75A50B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9F8F-BEDB-4A0F-A441-67865A88806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08F41-8166-42B3-8E3F-094E2C84B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A30AF-7B7D-42E1-9CE6-6ED5E7657B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6AF40-3BBF-45B5-A26A-E303E37734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C2C3D-895F-41F5-941D-0C0AF6DD06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35F65-5882-4B4F-A1BB-3215F74988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22BDA-81D6-4F07-9C43-97D0763CD4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2FF48-6D2D-4DE8-8E73-1FF26973F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EEBBD-A8A0-4AD8-9F7A-43C57EB9CA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2494C-4E46-4287-9E7F-EF5C207A3F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7DDB8-E187-4873-B98E-A6D4DEA85F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82D67-1AC2-4363-9EF1-282AA29F84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41BDA-309A-407E-8EC1-DED7BCA29A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D918-88AD-45B8-A6E3-14505E8B920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참고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은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008000"/>
                <a:gridCol w="3961080"/>
                <a:gridCol w="381636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실시간 발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서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제출 불필요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연구관리시스템 발표자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업로드란에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‘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용 계획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’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업로드할 것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1-05T01:20:08Z</dcterms:modified>
  <cp:revision>96</cp:revision>
  <dc:subject/>
  <dc:title>2006년도 식품의약품안전청 공개발표 선정평가    ℹ 사 업 명 :   ℹ 과 제 명 :   ℹ 연 구 비 :   ℹ 신청기관 :   ℹ 주관연구책임자 :</dc:title>
</cp:coreProperties>
</file>